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2077-2637-4398-9679-E24A7761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AE6A-8791-40D4-BAB7-78FE9E9E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2902-1C63-4E53-9552-78B2127E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8215-11D9-47CA-9B16-898832E1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96DC-2F6E-4A7D-821F-FBECA943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BA5E-C0EC-4870-8AA4-DEDEB176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B59E-AA23-43F9-A318-BA768E26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EE67-77FC-42FD-BEAE-A5E833C1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4577-334D-4918-9A39-8D76E91C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A782-03A4-4FD9-99DE-33AED830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3827-1887-4915-B629-11131270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BB4B-92A6-4132-BDC8-D7343765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9D24-1F75-4AAD-8BC2-5DA9E344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06FD-651A-43D9-B398-3BCF8EA1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3DE1-4CE0-400E-9BC5-8E8615EA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82C4-F921-47BE-8CCB-FBC481AB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963D-AD14-476A-A1BC-0C6BCA58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3953B-ECB3-4B00-B9FA-EA5AA856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DA137-22C2-4863-96D8-F07268C0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ADF7C-38D6-4C57-929B-CC5B67EF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B897C-D28F-4FE6-B522-CEBEF9FA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AF6ED-62FF-4711-B539-1CCF572C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D914-D79E-4666-BE0C-C1298D37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91A93-5CCF-48C1-BA34-1ACCF9DF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3BF04-8A39-4E20-8AEC-C0043D08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23B56-69A6-4F34-A446-E1303148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35566-EBD4-4BCC-84E3-FB9CD93C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99BAE-ADA1-4291-BAB6-5D4B61AB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5EF00-0242-4D01-B8C9-80697EF7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7D343-528B-4163-ACDB-F64DBD5A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CF6C9-8DAF-467D-A8A8-48226528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E82F4-BF4C-4732-B88A-0A780877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93859-BCD0-4C2F-BE28-0D53D527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1254-4DA9-4858-B6B9-9FBF368F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3062A-CC98-4D36-A03D-33B84B48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22B9E-6AAB-40DE-B11F-5E154538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E14C2-9D72-43AB-A0FF-71DA6DBA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BA6CF-CB82-41B4-94B5-B012BC34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D6102-ECC4-4956-A237-7F13EEF8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47D99-9381-4186-91B1-32BF36D0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B1FA3-4890-41E7-9A2D-E0C60225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D2B25-0DDE-43BF-BB34-2A129EE7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DBE46-099D-46AD-9371-07D67950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874-897C-480A-929F-D240908C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C795-4F16-4867-AF40-7399C60F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2A7-18FF-4779-B217-7A49D085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780-CA71-498C-B971-F8D9BC2B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CCC3-D5E5-4867-8F1D-E3C3E744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3AB7-27BE-44F7-B486-5789198D15A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9B50-B8EE-4E50-AA0B-79A90882D19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109C-23F0-4EA3-981C-D2013A9A8C9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E7F3-38C9-4A21-9010-46D05F16D3F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omestications.com/ProductS.asp?deptid=28000&amp;sid=468AE3001B3B617F&amp;subdeptid=28100&amp;product=A13380x&amp;R=13380D&amp;dept_id=28100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eb.hgtv.com/hgtv/designers_portfolio/portfolio/0,2159,HGTV_16257_1329,00.html?searchType=Portfolio&amp;Room=DP+ENTRYWAYS&amp;Style=&amp;Designer=&amp;SearchPositionIndex=15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web.hgtv.com/hgtv/designers_portfolio/portfolio/0,2159,HGTV_16257_1316,00.html?searchType=Portfolio&amp;Room=DP+ENTRYWAYS&amp;Style=&amp;Designer=&amp;SearchPositionIndex=17" TargetMode="Externa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displayroom/" TargetMode="External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rchitecture.about.com/" TargetMode="External"/><Relationship Id="rId2" Type="http://schemas.openxmlformats.org/officeDocument/2006/relationships/hyperlink" Target="http://www.artsmi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hg.com/bhg/story.jsp?storyid=/templatedata/bhg/story/data/1162332750843.xml&amp;catref=cat3350006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hgtv.com/hgtv/designers_portfolio/portfolio/0,2159,HGTV_16257_128,00.html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eb.hgtv.com/hgtv/designers_portfolio/portfolio/0,2159,HGTV_16257_1689,00.html?searchType=Portfolio&amp;Room=DP+LIVING+AREAS&amp;Style=&amp;Designer=&amp;SearchPositionIndex=2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web.hgtv.com/hgtv/designers_portfolio/portfolio/0,2159,HGTV_16257_1506,00.html?searchType=Portfolio&amp;Room=DP+BEDROOMS&amp;Style=&amp;Designer=&amp;SearchPositionIndex=18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web.hgtv.com/hgtv/designers_portfolio/portfolio/0,2159,HGTV_16257_1649,00.html?searchType=Portfolio&amp;Room=DP+KITCHENS&amp;Style=&amp;Designer=&amp;SearchPositionIndex=7" TargetMode="External"/><Relationship Id="rId9" Type="http://schemas.openxmlformats.org/officeDocument/2006/relationships/image" Target="../media/image13.jpeg"/><Relationship Id="rId10" Type="http://schemas.openxmlformats.org/officeDocument/2006/relationships/hyperlink" Target="http://www.hgtv.com/hgtv/designers_portfolio/portfolio/0,2159,HGTV_16257_1318,00.html" TargetMode="External"/><Relationship Id="rId11" Type="http://schemas.openxmlformats.org/officeDocument/2006/relationships/image" Target="../media/image14.jpeg"/><Relationship Id="rId12" Type="http://schemas.openxmlformats.org/officeDocument/2006/relationships/hyperlink" Target="http://www.hgtv.com/hgtv/designers_portfolio/portfolio/0,2159,HGTV_16257_234,00.html" TargetMode="External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hgtv.com/hgtv/designers_portfolio/portfolio/0,2159,HGTV_16257_537,00.html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architecture.about.com/od/periodsstyles/ig/House-Styles/saratoga-jc-3180005.htm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images.google.com/imgres?imgurl=http://www.fotosearch.com/comp/OMU/OMU118/01P0003.jpg&amp;imgrefurl=http://www.fotosearch.com/OMU118/01p0003/&amp;h=253&amp;w=300&amp;sz=20&amp;tbnid=i5VcmOLVdCRC_M:&amp;tbnh=98&amp;tbnw=116&amp;prev=/images%3Fq%3Dgreek%2Bcolumns%26um%3D1&amp;start=2&amp;sa=X&amp;oi=images&amp;ct=image&amp;cd=2" TargetMode="External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verythingfurniture.com/domain-sofa-set-1.html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chateaustone.com/mantels/index.php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www.crateandbarrel.com/family.aspx?c=1090&amp;f=22558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rateandbarrel.com/stoneware/dinnerware/1" TargetMode="External"/><Relationship Id="rId2" Type="http://schemas.openxmlformats.org/officeDocument/2006/relationships/hyperlink" Target="http://www.crateandbarrel.com/stoneware/dinnerware/1" TargetMode="External"/><Relationship Id="rId3" Type="http://schemas.openxmlformats.org/officeDocument/2006/relationships/hyperlink" Target="http://www.crateandbarrel.com/stoneware/dinnerware/1" TargetMode="External"/><Relationship Id="rId4" Type="http://schemas.openxmlformats.org/officeDocument/2006/relationships/hyperlink" Target="http://www.pier1.com/catalog/productdetail.aspx?oid=119505&amp;returnURL=http%3A%2F%2Fwww.pier1.com%2Fcatalog%2Fcollections.aspx%3Ffh_location%3D%2F%2Fpier1direct%2Fen_US%2Fcategories%3C%7B110299%7D%2Fcategories%3C%7B110341%7D%26fh_refpath%3Dfacet_59433428%26fh_start_index%3D0%26fh_view_size%3D8%26fh_view%3Dlister&amp;fh_location=//pier1direct/en_US/categories%3C%7B110299%7D/categories%3C%7B110341%7D&amp;fh_refpath=facet_59433428&amp;fh_start_index=0&amp;fh_view_size=8&amp;fh_view=lister" TargetMode="External"/><Relationship Id="rId5" Type="http://schemas.openxmlformats.org/officeDocument/2006/relationships/image" Target="../media/image23.jpeg"/><Relationship Id="rId6" Type="http://schemas.openxmlformats.org/officeDocument/2006/relationships/hyperlink" Target="http://www.pier1.com/catalog/productdetail.aspx?oid=115820&amp;returnURL=http%3A%2F%2Fwww.pier1.com%2Fcatalog%2Fcollections.aspx%3Ffh_view_size%3D8%26fh_view%3Dlister%26fh_refpath%3Dfacet_59433428%26fh_location%3D%2F%2Fpier1direct%2Fen_US%2Fcategories%3C%7B110299%7D%2Fcategories%3C%7B110348%7D%26fh_eds%3D&#223;%26fh_start_index%3D8&amp;fh_view_size=8&amp;fh_view=lister&amp;fh_refpath=facet_59433428&amp;fh_location=//pier1direct/en_US/categories%3C%7B110299%7D/categories%3C%7B110348%7D&amp;fh_eds=&#223;&amp;fh_start_index=8" TargetMode="External"/><Relationship Id="rId7" Type="http://schemas.openxmlformats.org/officeDocument/2006/relationships/image" Target="../media/image24.jpeg"/><Relationship Id="rId8" Type="http://schemas.openxmlformats.org/officeDocument/2006/relationships/hyperlink" Target="http://www.pier1.com/catalog/productdetail.aspx?oid=121979&amp;returnURL=http%3A%2F%2Fwww.pier1.com%2Fcatalog%2Fcollections.aspx%3Ffh_location%3D%2F%2Fpier1direct%2Fen_US%2Fcategories%3C%7B110300%7D%2Fcategories%3C%7B110352%7D%26fh_refpath%3Dfacet_59432454%26fh_start_index%3D0%26fh_view_size%3D8%26fh_view%3Dlister&amp;fh_location=//pier1direct/en_US/categories%3C%7B110300%7D/categories%3C%7B110352%7D&amp;fh_refpath=facet_59432454&amp;fh_start_index=0&amp;fh_view_size=8&amp;fh_view=lister" TargetMode="External"/><Relationship Id="rId9" Type="http://schemas.openxmlformats.org/officeDocument/2006/relationships/image" Target="../media/image25.jpeg"/><Relationship Id="rId10" Type="http://schemas.openxmlformats.org/officeDocument/2006/relationships/hyperlink" Target="http://www.pier1.com/catalog/productdetail.aspx?oid=121998&amp;returnURL=http%3A%2F%2Fwww.pier1.com%2Fcatalog%2Fgateway.aspx%3Ffh_location%3D%2F%2Fpier1direct%2Fen_US%2Fcategories%3C%7B110297%7D%26fh_refpath%3Dfacet_59232842&amp;fh_location=//pier1direct/en_US/categories%3C%7B110297%7D&amp;fh_refpath=facet_59232842" TargetMode="External"/><Relationship Id="rId11" Type="http://schemas.openxmlformats.org/officeDocument/2006/relationships/image" Target="../media/image26.jpeg"/><Relationship Id="rId12" Type="http://schemas.openxmlformats.org/officeDocument/2006/relationships/hyperlink" Target="http://www.countrycurtains.com/sdx/217088.jsp" TargetMode="External"/><Relationship Id="rId13" Type="http://schemas.openxmlformats.org/officeDocument/2006/relationships/image" Target="../media/image27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.0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ABCD"/>
          <p:cNvPicPr/>
          <p:nvPr/>
        </p:nvPicPr>
        <p:blipFill>
          <a:blip r:embed="rId2"/>
          <a:stretch/>
        </p:blipFill>
        <p:spPr>
          <a:xfrm>
            <a:off x="7162920" y="464832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Diagonal lin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municate action and excitement. Appear as stairs, lampshades, cathedral ceilings, roof lines, fabrics and wallpap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Picture 5" descr="A13380x_A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4038480"/>
            <a:ext cx="2514600" cy="2194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wiltgen_commonentry_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44197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8" descr="vah_r1_staircase_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10080" y="44956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r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33520" y="1752120"/>
            <a:ext cx="3200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Realistic Form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communicates  lifelike, traditional, and familiar feelings with objec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7" descr="o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914400"/>
            <a:ext cx="1981080" cy="3040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5" descr="vasesBlakBuk"/>
          <p:cNvPicPr/>
          <p:nvPr/>
        </p:nvPicPr>
        <p:blipFill>
          <a:blip r:embed="rId3"/>
          <a:stretch/>
        </p:blipFill>
        <p:spPr>
          <a:xfrm>
            <a:off x="6324480" y="4267080"/>
            <a:ext cx="2133720" cy="205740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17"/>
          <p:cNvSpPr/>
          <p:nvPr/>
        </p:nvSpPr>
        <p:spPr>
          <a:xfrm>
            <a:off x="4403880" y="3316320"/>
            <a:ext cx="2966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-1023"/>
          <p:cNvSpPr/>
          <p:nvPr/>
        </p:nvSpPr>
        <p:spPr>
          <a:xfrm>
            <a:off x="0" y="0"/>
            <a:ext cx="2143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bstract for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rearranges a recognizable object. The object has familiar traits,but altered. Used in contemporary setting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Geometric For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uses squares, rectangles, circles and other geometric figures to create form. Communicates organization, order, and planning. Square tables, round lampshades, various pillow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ree for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random and flowing. Often found in nature (plants, stones, wood) with no sense of geometric design. This is untraditional, unfamiliar, and different from realistic for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Using For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in Hous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Form follows 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. Related forms are more agreeable than unrelated form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3. A gradual change in form smoothly leads the ey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see page 246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Housing Decision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for more detail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ext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fers to the way a surface feels or appears to fee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acti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how a surface actually feels to the touch. Described as smooth, rough, bumpy, grainy, porous, co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Visual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exture that can be seen but not felt. Scenic wallpapers, fabric patterns, laminate flooring, et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igh Mas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space that is visually crowded. Too many patterns or lines. Feelings of being cluttered, too formal, heav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ow Mas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space is simple and sparse. Only the essential items are in the room. Communicates a clean and airy spa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Reference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Housing Decisions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pages 241-24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www.architecture.about.com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www.artsmia.org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ww.everythingfurniture.com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ww.chateaustone.com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ww.countrycurtains.com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ww.pierone.com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ww.crateandbarrel.com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ww.domestications.com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ww.hgtv.com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ww.bhg.com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Copyright  ©2007, ABCD, All rights reserve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Elements of Desig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pac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ines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extur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orm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as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lements of Design Cont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752120"/>
            <a:ext cx="4191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pac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Space refers to the 3 dimensional area around or inside a form. It can communicate positive or negative feeling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7" descr="Play room with round blue white ru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6765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rge spaces can communicate feelings of openness and grandeur, but can also make a person feel small/lost/overwhelm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mall spaces can make one feel cozy, intimate, or comfortable, but can also be crowded due to number of people or furnishing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ranging Spa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open or expand a space, use mirrors, expand the window area, or create half walls or totally remove wall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create a cozy space, divide the space into separate areas using area rugs or clustering furniture into small groups (2 chairs and a small table, sofa and lovese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Rectangle 2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13"/>
          <p:cNvGrpSpPr/>
          <p:nvPr/>
        </p:nvGrpSpPr>
        <p:grpSpPr>
          <a:xfrm>
            <a:off x="3741840" y="2598840"/>
            <a:ext cx="7057800" cy="360"/>
            <a:chOff x="3741840" y="2598840"/>
            <a:chExt cx="7057800" cy="360"/>
          </a:xfrm>
        </p:grpSpPr>
        <p:sp>
          <p:nvSpPr>
            <p:cNvPr id="209" name="Rectangle 3"/>
            <p:cNvSpPr/>
            <p:nvPr/>
          </p:nvSpPr>
          <p:spPr>
            <a:xfrm>
              <a:off x="3741840" y="2598840"/>
              <a:ext cx="7057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12"/>
            <p:cNvGrpSpPr/>
            <p:nvPr/>
          </p:nvGrpSpPr>
          <p:grpSpPr>
            <a:xfrm>
              <a:off x="3741840" y="2598840"/>
              <a:ext cx="7057800" cy="360"/>
              <a:chOff x="3741840" y="2598840"/>
              <a:chExt cx="7057800" cy="360"/>
            </a:xfrm>
          </p:grpSpPr>
          <p:sp>
            <p:nvSpPr>
              <p:cNvPr id="211" name="Rectangle 4"/>
              <p:cNvSpPr/>
              <p:nvPr/>
            </p:nvSpPr>
            <p:spPr>
              <a:xfrm>
                <a:off x="3741840" y="2598840"/>
                <a:ext cx="70578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Group 11"/>
              <p:cNvGrpSpPr/>
              <p:nvPr/>
            </p:nvGrpSpPr>
            <p:grpSpPr>
              <a:xfrm>
                <a:off x="3741840" y="2598840"/>
                <a:ext cx="3965040" cy="360"/>
                <a:chOff x="3741840" y="2598840"/>
                <a:chExt cx="3965040" cy="360"/>
              </a:xfrm>
            </p:grpSpPr>
            <p:sp>
              <p:nvSpPr>
                <p:cNvPr id="213" name="Rectangle 5"/>
                <p:cNvSpPr/>
                <p:nvPr/>
              </p:nvSpPr>
              <p:spPr>
                <a:xfrm>
                  <a:off x="3741840" y="2598840"/>
                  <a:ext cx="3965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Rectangle 6"/>
                <p:cNvSpPr/>
                <p:nvPr/>
              </p:nvSpPr>
              <p:spPr>
                <a:xfrm>
                  <a:off x="3741840" y="2598840"/>
                  <a:ext cx="3965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15" name="Picture 9" descr="jaivin_lr2_contemp_l_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17524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0" descr="pier1_livingroom_d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9920" y="4572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2" descr="woodrum_dh_bedroom_d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14400" y="4572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4" descr="kohler_aaa20916_d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505320" y="457200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70"/>
          <p:cNvGrpSpPr/>
          <p:nvPr/>
        </p:nvGrpSpPr>
        <p:grpSpPr>
          <a:xfrm>
            <a:off x="3741840" y="2598840"/>
            <a:ext cx="7057800" cy="360"/>
            <a:chOff x="3741840" y="2598840"/>
            <a:chExt cx="7057800" cy="360"/>
          </a:xfrm>
        </p:grpSpPr>
        <p:sp>
          <p:nvSpPr>
            <p:cNvPr id="220" name="Rectangle 60"/>
            <p:cNvSpPr/>
            <p:nvPr/>
          </p:nvSpPr>
          <p:spPr>
            <a:xfrm>
              <a:off x="3741840" y="2598840"/>
              <a:ext cx="7057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69"/>
            <p:cNvGrpSpPr/>
            <p:nvPr/>
          </p:nvGrpSpPr>
          <p:grpSpPr>
            <a:xfrm>
              <a:off x="3741840" y="2598840"/>
              <a:ext cx="7057800" cy="360"/>
              <a:chOff x="3741840" y="2598840"/>
              <a:chExt cx="7057800" cy="360"/>
            </a:xfrm>
          </p:grpSpPr>
          <p:sp>
            <p:nvSpPr>
              <p:cNvPr id="222" name="Rectangle 61"/>
              <p:cNvSpPr/>
              <p:nvPr/>
            </p:nvSpPr>
            <p:spPr>
              <a:xfrm>
                <a:off x="3741840" y="2598840"/>
                <a:ext cx="70578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Group 68"/>
              <p:cNvGrpSpPr/>
              <p:nvPr/>
            </p:nvGrpSpPr>
            <p:grpSpPr>
              <a:xfrm>
                <a:off x="3741840" y="2598840"/>
                <a:ext cx="3965040" cy="360"/>
                <a:chOff x="3741840" y="2598840"/>
                <a:chExt cx="3965040" cy="360"/>
              </a:xfrm>
            </p:grpSpPr>
            <p:sp>
              <p:nvSpPr>
                <p:cNvPr id="224" name="Rectangle 62"/>
                <p:cNvSpPr/>
                <p:nvPr/>
              </p:nvSpPr>
              <p:spPr>
                <a:xfrm>
                  <a:off x="3741840" y="2598840"/>
                  <a:ext cx="3965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Rectangle 63"/>
                <p:cNvSpPr/>
                <p:nvPr/>
              </p:nvSpPr>
              <p:spPr>
                <a:xfrm>
                  <a:off x="3741840" y="2598840"/>
                  <a:ext cx="3965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26" name="Picture 66" descr="wiltgen_bathroom3_d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581280" y="198108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227" name="Group 81"/>
          <p:cNvGrpSpPr/>
          <p:nvPr/>
        </p:nvGrpSpPr>
        <p:grpSpPr>
          <a:xfrm>
            <a:off x="3741840" y="2598840"/>
            <a:ext cx="7057800" cy="360"/>
            <a:chOff x="3741840" y="2598840"/>
            <a:chExt cx="7057800" cy="360"/>
          </a:xfrm>
        </p:grpSpPr>
        <p:sp>
          <p:nvSpPr>
            <p:cNvPr id="228" name="Rectangle 71"/>
            <p:cNvSpPr/>
            <p:nvPr/>
          </p:nvSpPr>
          <p:spPr>
            <a:xfrm>
              <a:off x="3741840" y="2598840"/>
              <a:ext cx="7057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80"/>
            <p:cNvGrpSpPr/>
            <p:nvPr/>
          </p:nvGrpSpPr>
          <p:grpSpPr>
            <a:xfrm>
              <a:off x="3741840" y="2598840"/>
              <a:ext cx="7057800" cy="360"/>
              <a:chOff x="3741840" y="2598840"/>
              <a:chExt cx="7057800" cy="360"/>
            </a:xfrm>
          </p:grpSpPr>
          <p:sp>
            <p:nvSpPr>
              <p:cNvPr id="230" name="Rectangle 72"/>
              <p:cNvSpPr/>
              <p:nvPr/>
            </p:nvSpPr>
            <p:spPr>
              <a:xfrm>
                <a:off x="3741840" y="2598840"/>
                <a:ext cx="70578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Group 79"/>
              <p:cNvGrpSpPr/>
              <p:nvPr/>
            </p:nvGrpSpPr>
            <p:grpSpPr>
              <a:xfrm>
                <a:off x="3741840" y="2598840"/>
                <a:ext cx="3965040" cy="360"/>
                <a:chOff x="3741840" y="2598840"/>
                <a:chExt cx="3965040" cy="360"/>
              </a:xfrm>
            </p:grpSpPr>
            <p:sp>
              <p:nvSpPr>
                <p:cNvPr id="232" name="Rectangle 73"/>
                <p:cNvSpPr/>
                <p:nvPr/>
              </p:nvSpPr>
              <p:spPr>
                <a:xfrm>
                  <a:off x="3741840" y="2598840"/>
                  <a:ext cx="3965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Rectangle 74"/>
                <p:cNvSpPr/>
                <p:nvPr/>
              </p:nvSpPr>
              <p:spPr>
                <a:xfrm>
                  <a:off x="3741840" y="2598840"/>
                  <a:ext cx="3965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34" name="Picture 77" descr="meyer_entry_04_d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943600" y="20574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Line: most basic element of desig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057400"/>
            <a:ext cx="4114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Vertical lin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re perpendicular to the ground, cause the eye to move up and down. Suggest height, strength, dignity, and stabilit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4" descr="vertical lines"/>
          <p:cNvPicPr/>
          <p:nvPr/>
        </p:nvPicPr>
        <p:blipFill>
          <a:blip r:embed="rId1"/>
          <a:stretch/>
        </p:blipFill>
        <p:spPr>
          <a:xfrm>
            <a:off x="6324480" y="1523880"/>
            <a:ext cx="20574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16"/>
          <p:cNvGrpSpPr/>
          <p:nvPr/>
        </p:nvGrpSpPr>
        <p:grpSpPr>
          <a:xfrm>
            <a:off x="3741840" y="2598840"/>
            <a:ext cx="7057800" cy="360"/>
            <a:chOff x="3741840" y="2598840"/>
            <a:chExt cx="7057800" cy="360"/>
          </a:xfrm>
        </p:grpSpPr>
        <p:sp>
          <p:nvSpPr>
            <p:cNvPr id="239" name="Rectangle 6"/>
            <p:cNvSpPr/>
            <p:nvPr/>
          </p:nvSpPr>
          <p:spPr>
            <a:xfrm>
              <a:off x="3741840" y="2598840"/>
              <a:ext cx="7057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5"/>
            <p:cNvGrpSpPr/>
            <p:nvPr/>
          </p:nvGrpSpPr>
          <p:grpSpPr>
            <a:xfrm>
              <a:off x="3741840" y="2598840"/>
              <a:ext cx="7057800" cy="360"/>
              <a:chOff x="3741840" y="2598840"/>
              <a:chExt cx="7057800" cy="360"/>
            </a:xfrm>
          </p:grpSpPr>
          <p:sp>
            <p:nvSpPr>
              <p:cNvPr id="241" name="Rectangle 7"/>
              <p:cNvSpPr/>
              <p:nvPr/>
            </p:nvSpPr>
            <p:spPr>
              <a:xfrm>
                <a:off x="3741840" y="2598840"/>
                <a:ext cx="70578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Group 14"/>
              <p:cNvGrpSpPr/>
              <p:nvPr/>
            </p:nvGrpSpPr>
            <p:grpSpPr>
              <a:xfrm>
                <a:off x="3741840" y="2598840"/>
                <a:ext cx="3965040" cy="360"/>
                <a:chOff x="3741840" y="2598840"/>
                <a:chExt cx="3965040" cy="360"/>
              </a:xfrm>
            </p:grpSpPr>
            <p:sp>
              <p:nvSpPr>
                <p:cNvPr id="243" name="Rectangle 8"/>
                <p:cNvSpPr/>
                <p:nvPr/>
              </p:nvSpPr>
              <p:spPr>
                <a:xfrm>
                  <a:off x="3741840" y="2598840"/>
                  <a:ext cx="3965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9"/>
                <p:cNvSpPr/>
                <p:nvPr/>
              </p:nvSpPr>
              <p:spPr>
                <a:xfrm>
                  <a:off x="3741840" y="2598840"/>
                  <a:ext cx="3965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45" name="Picture 12" descr="berstler_flower2p68_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2670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9"/>
          <p:cNvSpPr/>
          <p:nvPr/>
        </p:nvSpPr>
        <p:spPr>
          <a:xfrm>
            <a:off x="3794040" y="2057400"/>
            <a:ext cx="10526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8" descr="Stately, pillared Greek Revival homes reflect a passion for antiquity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71800" y="4343400"/>
            <a:ext cx="1676520" cy="1486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1" descr="http://www.fotosearch.com/OMU118/01p0003/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343400" y="1295280"/>
            <a:ext cx="1401840" cy="1349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mia_16519g"/>
          <p:cNvPicPr/>
          <p:nvPr/>
        </p:nvPicPr>
        <p:blipFill>
          <a:blip r:embed="rId8"/>
          <a:stretch/>
        </p:blipFill>
        <p:spPr>
          <a:xfrm>
            <a:off x="5181480" y="3886200"/>
            <a:ext cx="3276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orizontal lin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re parallel to the ground. They direct the eye across and convey feelings of relaxation, calmness, rest. Found in mantles, bookcases, long sofas, fabrics and wallpaper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5" descr="Domain Sofa Set in Alabaster (Cream) - Largo Furniture - 9869-S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57200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Fireplace Mante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3809880"/>
            <a:ext cx="2008080" cy="243072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14">
            <a:hlinkClick r:id="rId5"/>
          </p:cNvPr>
          <p:cNvSpPr/>
          <p:nvPr/>
        </p:nvSpPr>
        <p:spPr>
          <a:xfrm>
            <a:off x="2568600" y="438768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urved Lin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part of a circle that is natural and free flowing. These lines reflect organization, eternity and uniformity  as well as softness and freedom.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AutoShape 5">
            <a:hlinkClick r:id="rId2"/>
          </p:cNvPr>
          <p:cNvSpPr/>
          <p:nvPr/>
        </p:nvSpPr>
        <p:spPr>
          <a:xfrm>
            <a:off x="6723000" y="331308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2">
            <a:hlinkClick r:id="rId3"/>
          </p:cNvPr>
          <p:cNvSpPr/>
          <p:nvPr/>
        </p:nvSpPr>
        <p:spPr>
          <a:xfrm>
            <a:off x="6723000" y="331308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7400" y="2567160"/>
            <a:ext cx="1785960" cy="36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360" tIns="-42480" bIns="-424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3" descr="Bronze Crackle Ceramic Vase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480" y="40384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41"/>
          <p:cNvSpPr/>
          <p:nvPr/>
        </p:nvSpPr>
        <p:spPr>
          <a:xfrm>
            <a:off x="887400" y="2567160"/>
            <a:ext cx="1785960" cy="36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360" tIns="-42480" bIns="-424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5" descr="Vertical Dots Pillow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33720" y="47242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63"/>
          <p:cNvSpPr/>
          <p:nvPr/>
        </p:nvSpPr>
        <p:spPr>
          <a:xfrm>
            <a:off x="887400" y="2567160"/>
            <a:ext cx="1785960" cy="36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360" tIns="-42480" bIns="-424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7" descr="Elemental by Pier 1 Dinnerwar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733920" y="3962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85"/>
          <p:cNvSpPr/>
          <p:nvPr/>
        </p:nvSpPr>
        <p:spPr>
          <a:xfrm>
            <a:off x="887400" y="2427120"/>
            <a:ext cx="1785960" cy="36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360" tIns="-42480" bIns="-424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0" descr="Debbie by Pier 1 Dining Table Bas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41008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5" descr="Narrow Ruffle Unbleached Muslin Curtains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162920" y="4191120"/>
            <a:ext cx="137160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20:37:02Z</dcterms:created>
  <dc:creator>vocats</dc:creator>
  <dc:description/>
  <dc:language>en-US</dc:language>
  <cp:lastModifiedBy>s.brooks</cp:lastModifiedBy>
  <dcterms:modified xsi:type="dcterms:W3CDTF">2010-09-21T13:49:59Z</dcterms:modified>
  <cp:revision>18</cp:revision>
  <dc:subject/>
  <dc:title>Elements of Design and Principles of Design</dc:title>
</cp:coreProperties>
</file>